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35CE-C2C7-4176-9B1E-C1AC018516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756F-BB65-4F5A-B0ED-EECBD61B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680F-0FAA-4C69-8015-7D47BB9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B6DC-1EAC-4625-B1F5-DF3FE3A823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7722-82DB-4C2A-B2AC-3453C963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99D9-B646-40B0-AC99-523B528C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01A8-FF68-4D61-B6FD-5B68844A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3346-E662-4470-B631-92EACED1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D23F-1514-4DA6-BED1-230DE7C9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91A9-7C2E-460A-BCF4-E32B6535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2A51-41B1-4512-BE17-22712172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2E3A-D7F8-4147-8282-C70E7FC5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e8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74e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191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CFD4-2C92-4FC9-8824-0E09D5C7F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2120" y="1014480"/>
            <a:ext cx="7089480" cy="77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2560" y="4800600"/>
            <a:ext cx="328320" cy="2000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583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uken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705360" y="3733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5714640" y="4114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098960"/>
            <a:ext cx="381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ustomized engineering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419640"/>
            <a:ext cx="33530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8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74e8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ATe European IBIS Summi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bruary the 20th,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92560" y="3713040"/>
            <a:ext cx="384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ATe 200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NIT Conference Center, La Defense, Fr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5987880" cy="1903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84520" y="1803240"/>
            <a:ext cx="2133360" cy="50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01680" y="801720"/>
            <a:ext cx="1782720" cy="14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1680" y="954000"/>
            <a:ext cx="178272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63640" y="1168200"/>
            <a:ext cx="8191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00  WELCOME AND INTRODUCTIONS (Ralf Brü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10   IBIS QUALITY (R. Haller, SiSoft,  Eckhard Lenski,  Siemens AG, German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35   VERIFICATION OF IBIS MODELS (Hans Klos, Sintecs BV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00  IBIS MODEL DEVELOPMENT AND VALIDATION (not confirmed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hripad Annigeri, WiPro, Ind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25  SENSITIVITY ANALYSIS OF IBIS-PARAMETERS WITH HSPICE (M. Maurer,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50  BREAK (1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05  IBIS MODELS, CURRENT STATUS AND SOME NOTES ON IBIS4.0 Parameters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(Eckhard Lenski, 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30  IBIS AND EMI SCREENING TOOLS (Ralf Brue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50  A FREEWARE ENVIRONMENT FOR IC EMISSION SIMUL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ED ON ICEM AND IBIS (Etienne Sicard, INSA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2:15  LUNCH/DISCUSSION (4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52560" y="123192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00  THE BENEFITS OF MULTI-LINGUAL EXTENSIONS TO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tephane Rousseau, Mentor Graphic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25  PARAMETRIC MODELS IN IBIS MULTILINGUAL FRAME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.G. Canavero, I.A. Maio, B. Ross*, I.S. Stievano Politecnoico di Torino, Italy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Teraspeed Consulting Group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resented by I.S. Steivano, Politecnico di Tor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50   LUMPED SKIN EFFECT MODEL FOR PACKAGE L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Ege Engin, Fraunhofer IZM/University of Paderbo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4:15    BREAK &amp; END OF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19:46Z</dcterms:created>
  <dc:creator>Ralf Bruening</dc:creator>
  <dc:description/>
  <dc:language>en-US</dc:language>
  <cp:lastModifiedBy>Bob Ross</cp:lastModifiedBy>
  <dcterms:modified xsi:type="dcterms:W3CDTF">2004-02-20T15:04:33Z</dcterms:modified>
  <cp:revision>48</cp:revision>
  <dc:subject>Lossy Transmission Line Analysis</dc:subject>
  <dc:title>DATe2004 PCB Symposium</dc:title>
</cp:coreProperties>
</file>